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B4613-715B-4174-9AC2-D0CF41B5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8A6ED-B1BD-47C0-9B70-95A9594E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79217-4669-4D5A-B82A-2E50B201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493DC-8E7F-4CCA-AA3B-1793A47F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7BD9-7A77-4114-BD08-5D75D879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F23C-8A71-4DB7-855A-90575B48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FEE1-6155-4D5E-BEB4-8D7730E5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933E-48C7-4F8E-8977-FD901215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B1BA-D378-4EFC-B136-E20B84E4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1983-DD8F-46BD-AFD6-4BE68026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83DF-0B5B-4049-9F57-4FB7F811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A0B37-161F-4AC0-AC51-4EA7BAD4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031E-BE55-4FF3-B5F2-93FFAF3C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71AF-E0C3-490F-8BF2-AF171E15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F4A0-D980-433A-B915-5E2578F6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1B3A-F3F1-4793-8E31-35C736D2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C84D-1376-4FDA-B17D-02572755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96E8A-2492-4FA9-AA02-48D9D3E7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DCA23-3006-4341-B990-30948E38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E9523-8AA0-4C17-B2FE-197C3900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C3E10-59EB-4614-A32C-9F1819B5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DCBAB-1BE5-4CFD-A2BC-39B1F6F2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1511C-3261-4715-A0D6-9FFC4BE2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1F57D-E819-4FF1-8B86-2B438E21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B4DF-6EE3-4ADC-8DC1-8F7926B94D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F842-AE6C-4C0F-A7A7-E4A0992B5F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Adding Tex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14400" y="57913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1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1" y="20200"/>
                </a:lnTo>
                <a:lnTo>
                  <a:pt x="66091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1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p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9144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igns of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57150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i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46400" y="91440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igns of Winter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6:32:01Z</dcterms:created>
  <dc:creator>jnatale</dc:creator>
  <dc:description/>
  <dc:language>en-US</dc:language>
  <cp:lastModifiedBy>jnatale</cp:lastModifiedBy>
  <dcterms:modified xsi:type="dcterms:W3CDTF">2009-02-19T16:41:50Z</dcterms:modified>
  <cp:revision>2</cp:revision>
  <dc:subject/>
  <dc:title>Adding Text</dc:title>
</cp:coreProperties>
</file>